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50BC-00E6-4280-A027-00B06C50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7AD2-3F9F-433C-962A-0EEC42DF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A5BF-3167-4B2D-9F50-C15914EF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BD3-5B05-414C-8BCE-4ABE9ADB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3922-4F29-42FB-A2D9-97346353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FB89-7F91-47B1-9F00-CAB10A23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3152-ABC5-40F3-BA81-1D09474D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1838-64D8-4823-9D23-D1622A20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53D2-0FF5-493B-8792-BC25D19A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B248-B1A6-4A65-8139-7A3370E3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2CC6-46A2-4A0F-9609-5E6798FE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1145-B2AB-4E15-9574-C2B67882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563F-7607-4C66-9C0C-60E70E6B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AE5C-1AE7-43DE-870B-9816AFE0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FCD7-E7F5-4398-BF7B-34543687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5DD6-7431-4C4A-A1DB-3055C502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AE81-DDF6-4D18-8D18-8DA31AEB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0E6E-3A98-4A75-A0B2-7E3F41A2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EBB7-8F29-4679-8ED3-CD327091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17E5-30A8-4480-8213-042F18AA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6D8-BC53-4298-8AC6-56616622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609-0092-4CE8-94AE-16A7EB78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FF8-E643-4542-A9EE-39C88E07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E7DF-AD6B-41FA-AD3C-ADA92744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6A21-0101-460D-BBED-347609E97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4C69-612C-4C28-AB96-BEC8B5634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21304"/>
                </a:solidFill>
                <a:latin typeface="Times New Roman"/>
              </a:rPr>
              <a:t>Martin Luther King, Jr.</a:t>
            </a:r>
            <a:endParaRPr b="0" lang="en-US" sz="8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523880" y="4267080"/>
            <a:ext cx="69343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“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I Have a Dream…”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08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ames Earl Ra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3786480" cy="3886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740400" cy="4114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14400" y="5867280"/>
            <a:ext cx="822960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mes Earl Ray assassinated Martin Luther King on April 3.196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808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373860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46400" y="1752480"/>
            <a:ext cx="374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n in Atlanta,Georgia January 15,19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64 was awarded Nobel Peace Pr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assinated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 3, 196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905120" y="0"/>
            <a:ext cx="60195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rtin`s Gra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808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46760" y="1752480"/>
            <a:ext cx="3740040" cy="4114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514600" cy="1666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0" y="6705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819520" y="685800"/>
            <a:ext cx="380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rtin's Speec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808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03884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46400" y="1752480"/>
            <a:ext cx="374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2895480" y="685800"/>
            <a:ext cx="3838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ords of His Speech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08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Martin Luther 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373860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46400" y="1752480"/>
            <a:ext cx="374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808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 Monum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89200" y="1752480"/>
            <a:ext cx="374004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46400" y="1752480"/>
            <a:ext cx="374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808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1640" y="1752480"/>
            <a:ext cx="374004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46400" y="1752480"/>
            <a:ext cx="374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752480" y="380880"/>
            <a:ext cx="601992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rtin`s Lif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808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gradFill rotWithShape="0">
            <a:gsLst>
              <a:gs pos="0">
                <a:srgbClr val="d9dc4a"/>
              </a:gs>
              <a:gs pos="100000">
                <a:srgbClr val="64652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benezer Baptist Churc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30680" y="1752480"/>
            <a:ext cx="3740040" cy="4114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46400" y="1752480"/>
            <a:ext cx="374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808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8859c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946760" y="1752480"/>
            <a:ext cx="3740040" cy="4114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362320" y="533520"/>
            <a:ext cx="44956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rotes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808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46400" y="1752480"/>
            <a:ext cx="374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600200" y="380880"/>
            <a:ext cx="5791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LK Street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808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23:41:36Z</dcterms:created>
  <dc:creator>Andrew R. Perrong</dc:creator>
  <dc:description/>
  <dc:language>en-US</dc:language>
  <cp:lastModifiedBy>OLGC</cp:lastModifiedBy>
  <dcterms:modified xsi:type="dcterms:W3CDTF">2007-01-10T19:31:36Z</dcterms:modified>
  <cp:revision>15</cp:revision>
  <dc:subject/>
  <dc:title>Martin Luther King</dc:title>
</cp:coreProperties>
</file>